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72682-EA94-4EBD-819F-4B576C057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C3F32-43D8-4836-894A-954CDC2F7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7D5D5-4CC7-44B2-A8BC-193ACF70E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D2316-3DFA-454D-8848-D7470B5FF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19A2B-2B92-4096-83F8-42FF3E2A2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122C4-7336-4BC4-96A7-6B9561F76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6FC62-7D0C-4E83-A5B2-A48E147EA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DA820-DD13-4BD3-AC69-54A5E706B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91237-ACC8-4550-80F3-7EB3715A6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746D4-C33F-4F92-8A7A-CFDAA99CD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FC4BB-E3D1-4CB2-830E-F17E0F8AE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DB933-3A1B-4764-9239-CEBF43337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54422-5AD0-4815-8C34-07D14F170A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920"/>
            <a:ext cx="5029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QUE ES LA GEOLOGÍA ?</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42" name="PlaceHolder 2"/>
          <p:cNvSpPr>
            <a:spLocks noGrp="1"/>
          </p:cNvSpPr>
          <p:nvPr>
            <p:ph/>
          </p:nvPr>
        </p:nvSpPr>
        <p:spPr>
          <a:xfrm>
            <a:off x="228240" y="914400"/>
            <a:ext cx="8534520" cy="13716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s una disciplina científica!</a:t>
            </a:r>
            <a:endParaRPr b="0" lang="en-US" sz="2800" spc="-1" strike="noStrike">
              <a:solidFill>
                <a:srgbClr val="000000"/>
              </a:solidFill>
              <a:latin typeface="Times New Roman"/>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QUE ESTUDIA O QUE INVESTIGA LA GEOLOGÍA?</a:t>
            </a:r>
            <a:r>
              <a:rPr b="1" lang="en-US" sz="2800" spc="-1" strike="noStrike">
                <a:solidFill>
                  <a:srgbClr val="ffffff"/>
                </a:solidFill>
                <a:latin typeface="Times New Roman"/>
              </a:rPr>
              <a:t> </a:t>
            </a:r>
            <a:endParaRPr b="0" lang="en-US" sz="2800" spc="-1" strike="noStrike">
              <a:solidFill>
                <a:srgbClr val="000000"/>
              </a:solidFill>
              <a:latin typeface="Times New Roman"/>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studia el Planeta Tierra!</a:t>
            </a:r>
            <a:endParaRPr b="0" lang="en-US" sz="2800" spc="-1" strike="noStrike">
              <a:solidFill>
                <a:srgbClr val="000000"/>
              </a:solidFill>
              <a:latin typeface="Times New Roman"/>
            </a:endParaRPr>
          </a:p>
        </p:txBody>
      </p:sp>
      <p:sp>
        <p:nvSpPr>
          <p:cNvPr id="43" name=""/>
          <p:cNvSpPr/>
          <p:nvPr/>
        </p:nvSpPr>
        <p:spPr>
          <a:xfrm>
            <a:off x="228600" y="2362320"/>
            <a:ext cx="8534520" cy="4343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vestiga su origen; su evolución histórica: los cambios que la han afectado desde su creación hasta el presente;  la composición y estructura de los materiales que la forman; los procesos dinámicos que la caracterizan; su morfología; etc.</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sca conocer la presencia y distribución de los </a:t>
            </a:r>
            <a:r>
              <a:rPr b="1" lang="en-US" sz="2400" spc="-1" strike="noStrike">
                <a:solidFill>
                  <a:srgbClr val="ffffff"/>
                </a:solidFill>
                <a:latin typeface="Times New Roman"/>
              </a:rPr>
              <a:t>recursos naturales no renovables</a:t>
            </a:r>
            <a:r>
              <a:rPr b="0" lang="en-US" sz="2400" spc="-1" strike="noStrike">
                <a:solidFill>
                  <a:srgbClr val="ffffff"/>
                </a:solidFill>
                <a:latin typeface="Times New Roman"/>
              </a:rPr>
              <a:t>, metálicos y no metálicos, para uso y beneficio de la humanidad.</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a el hombre, entender su medio ambiente ha sido esencial, para aprender a sobrevivir, por adaptación a las fuerzas y a los cambios continuos que ocurren en la naturaleza.</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a Geología le entrega los conocimientos necesarios para ello.</a:t>
            </a:r>
            <a:endParaRPr b="0" lang="en-US" sz="2400" spc="-1" strike="noStrike">
              <a:solidFill>
                <a:srgbClr val="000000"/>
              </a:solidFill>
              <a:latin typeface="Times New Roman"/>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018C4D-FFBD-4BD4-80C0-6F564AA6F5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ENTENDER EL PORQUÉ Y EL CÓMO OCURREN LOS CAMBIOS,  SE REQUIERE  PREVIAMENTE CONOCER:</a:t>
            </a:r>
            <a:br>
              <a:rPr sz="2800"/>
            </a:br>
            <a:endParaRPr b="0" lang="en-US" sz="2800" spc="-1" strike="noStrike">
              <a:solidFill>
                <a:srgbClr val="000000"/>
              </a:solidFill>
              <a:latin typeface="Times New Roman"/>
            </a:endParaRPr>
          </a:p>
        </p:txBody>
      </p:sp>
      <p:sp>
        <p:nvSpPr>
          <p:cNvPr id="59" name="PlaceHolder 2"/>
          <p:cNvSpPr>
            <a:spLocks noGrp="1"/>
          </p:cNvSpPr>
          <p:nvPr>
            <p:ph/>
          </p:nvPr>
        </p:nvSpPr>
        <p:spPr>
          <a:xfrm>
            <a:off x="228600" y="1828800"/>
            <a:ext cx="86868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1°</a:t>
            </a:r>
            <a:r>
              <a:rPr b="1" lang="es-ES" sz="2800" spc="-1" strike="noStrike">
                <a:solidFill>
                  <a:srgbClr val="ffffff"/>
                </a:solidFill>
                <a:latin typeface="Times New Roman"/>
              </a:rPr>
              <a:t> la naturaleza y génesis de los materiales que componen el planeta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2°</a:t>
            </a:r>
            <a:r>
              <a:rPr b="1" lang="es-ES" sz="2800" spc="-1" strike="noStrike">
                <a:solidFill>
                  <a:srgbClr val="ffffff"/>
                </a:solidFill>
                <a:latin typeface="Times New Roman"/>
              </a:rPr>
              <a:t> su ordenamiento  interno  o estructura física  del planeta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3°</a:t>
            </a:r>
            <a:r>
              <a:rPr b="1" lang="es-ES" sz="2800" spc="-1" strike="noStrike">
                <a:solidFill>
                  <a:srgbClr val="ffffff"/>
                </a:solidFill>
                <a:latin typeface="Times New Roman"/>
              </a:rPr>
              <a:t> los sistemas dinámicos internos y externos del planeta  y cómo  interactúan éstos sistemas </a:t>
            </a:r>
            <a:endParaRPr b="0" lang="en-US" sz="2800" spc="-1" strike="noStrike">
              <a:solidFill>
                <a:srgbClr val="000000"/>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4°  la evolución de los cambios en la superficie del planet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02934B-565F-4EC3-B5EB-98E3B299BA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380880"/>
            <a:ext cx="7772400" cy="6019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APAS EXTERNAS DE LA TIER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Atmósfe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Hidrósfera</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Biósfera</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u dinámica es especialmente espectacular cuando se observan desde el espacio</a:t>
            </a:r>
            <a:endParaRPr b="0" lang="en-US" sz="24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CUATRO RESERVORIOS DEL SISTEMA TIERRA SON:</a:t>
            </a:r>
            <a:endParaRPr b="0" lang="en-US" sz="28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tm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Hidr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Biósfera</a:t>
            </a:r>
            <a:endParaRPr b="0" lang="en-US" sz="2400" spc="-1" strike="noStrike">
              <a:solidFill>
                <a:srgbClr val="000000"/>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ierra Sólid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2FD425E-51C4-474F-92E9-9E68F6417A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TRUCTURA FÍSICA DE LA TIERRA</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1219320"/>
            <a:ext cx="7772400" cy="502920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os materiales sólidos de la Tierra están separados en capas concéntricas, de acuerdo a su composición y propiedades mecánicas.</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Las capas, según su composición, de afuera hacia adentro son: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ORTEZ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NTO</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s capas, según sus propiedades físicas, de afuera hacia adentro son: </a:t>
            </a:r>
            <a:endParaRPr b="0" lang="en-US" sz="2000" spc="-1" strike="noStrike">
              <a:solidFill>
                <a:srgbClr val="000000"/>
              </a:solidFill>
              <a:latin typeface="Times New Roman"/>
            </a:endParaRPr>
          </a:p>
          <a:p>
            <a:pPr lvl="1" marL="743040" indent="-28584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LITÓSFERA</a:t>
            </a:r>
            <a:endParaRPr b="0" lang="en-US" sz="18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STENÓSFER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ESÓSOSFER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 EXTERNO</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NUCLEO INTERNO</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118979-7230-4272-B435-C9CE46F018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 FACTOR TIEMPO</a:t>
            </a:r>
            <a:endParaRPr b="0" lang="en-US" sz="3200" spc="-1" strike="noStrike">
              <a:solidFill>
                <a:srgbClr val="000000"/>
              </a:solidFill>
              <a:latin typeface="Times New Roman"/>
            </a:endParaRPr>
          </a:p>
        </p:txBody>
      </p:sp>
      <p:sp>
        <p:nvSpPr>
          <p:cNvPr id="64"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comprender los procesos de cambio que afectan de manera continua a la Tierra, es primordial tener claridad respecto al factor  tiempo en Geología, </a:t>
            </a:r>
            <a:endParaRPr b="0" lang="en-US" sz="2800" spc="-1" strike="noStrike">
              <a:solidFill>
                <a:srgbClr val="000000"/>
              </a:solidFill>
              <a:latin typeface="Times New Roman"/>
            </a:endParaRPr>
          </a:p>
        </p:txBody>
      </p:sp>
      <p:sp>
        <p:nvSpPr>
          <p:cNvPr id="65" name=""/>
          <p:cNvSpPr/>
          <p:nvPr/>
        </p:nvSpPr>
        <p:spPr>
          <a:xfrm>
            <a:off x="304920" y="236232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mprimamos, por ejemplo, los 4.600 millones de años de</a:t>
            </a:r>
            <a:r>
              <a:rPr b="0" lang="en-US" sz="2400" spc="-1" strike="noStrike">
                <a:solidFill>
                  <a:srgbClr val="000000"/>
                </a:solidFill>
                <a:latin typeface="Arial"/>
                <a:ea typeface="Arial"/>
              </a:rPr>
              <a:t> </a:t>
            </a:r>
            <a:r>
              <a:rPr b="0" lang="en-US" sz="2400" spc="-1" strike="noStrike">
                <a:solidFill>
                  <a:srgbClr val="ffffff"/>
                </a:solidFill>
                <a:latin typeface="Arial"/>
                <a:ea typeface="Arial"/>
              </a:rPr>
              <a:t>tiempo geológico en un solo año. A esa escala, las rocas mas antiguas que conocemos tienen fecha de mediados de marzo.  Los seres vivos aparecieron en el mar por primera vez en mayo. Las plantas y los animales terrestres emergieron a finales de noviembre y las amplias ciénagas que formaron los depósitos de carbón florecieron aproximadamente durante cuatro días a principios de diciembre. Los dinosaurios dominaron la Tierra a mediados de diciembre, pero desaparecieron el día 26, mas menos, a la vez que se levantaron por primera vez las Montañas</a:t>
            </a:r>
            <a:r>
              <a:rPr b="0" lang="en-US" sz="2400" spc="-1" strike="noStrike">
                <a:solidFill>
                  <a:srgbClr val="000000"/>
                </a:solidFill>
                <a:latin typeface="Arial"/>
                <a:ea typeface="Arial"/>
              </a:rPr>
              <a:t> </a:t>
            </a:r>
            <a:r>
              <a:rPr b="0" lang="en-US" sz="2400" spc="-1" strike="noStrike">
                <a:solidFill>
                  <a:srgbClr val="ffffff"/>
                </a:solidFill>
                <a:latin typeface="Arial"/>
                <a:ea typeface="Arial"/>
              </a:rPr>
              <a:t>Rocosas.</a:t>
            </a:r>
            <a:r>
              <a:rPr b="0" lang="en-US" sz="1800" spc="-1" strike="noStrike">
                <a:solidFill>
                  <a:srgbClr val="ffffff"/>
                </a:solidFill>
                <a:latin typeface="Arial"/>
                <a:ea typeface="Arial"/>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806D989-7F4B-4B4B-A1BE-D37D5864CB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1392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0" spc="-1" strike="noStrike">
              <a:solidFill>
                <a:srgbClr val="ffffff"/>
              </a:solidFill>
              <a:latin typeface="Times New Roman"/>
            </a:endParaRPr>
          </a:p>
        </p:txBody>
      </p:sp>
      <p:sp>
        <p:nvSpPr>
          <p:cNvPr id="67" name="PlaceHolder 2"/>
          <p:cNvSpPr>
            <a:spLocks noGrp="1"/>
          </p:cNvSpPr>
          <p:nvPr>
            <p:ph/>
          </p:nvPr>
        </p:nvSpPr>
        <p:spPr>
          <a:xfrm>
            <a:off x="228600" y="533520"/>
            <a:ext cx="8686800" cy="58672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Criaturas de aspecto humano aparecieron en algún momento de la tarde del 31 de diciembre y los casquetes polares continentales mas recientes empezaron a retroceder desde el área de los Grandes Lagos y el norte de Europa alrededor de 1 minuto y 15 segundos antes de la media noche del 31.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Roma gobernó el mundo occidental durante cinco segundos, desde las 11 h 59' 45'' hasta las 11 h 59' 50''. Colón descubrió Améri­ca tres segundos antes de la medianoche, y la ciencia de la geología nació con los escritos de James Hutton pasado un poco el último segundo del final de nuestro memorable gran año.</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1D86DB-8661-4B68-8336-D914F06D75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920" y="456840"/>
            <a:ext cx="8534160" cy="563868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ASTRONAUTAS Y SATÉLITES HAN MOSTRADO UN PLANETA CUBIERTO DE AGUA Y RODEADO DE UNA DELGADA ATMÓSFERA, CON NUBES BLANCAS ARREMOLINADAS</a:t>
            </a:r>
            <a:endParaRPr b="0" lang="en-US" sz="2400" spc="-1" strike="noStrike">
              <a:solidFill>
                <a:srgbClr val="000000"/>
              </a:solidFill>
              <a:latin typeface="Times New Roman"/>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VISTO DESDE EL ESPACIO, LA TIERRA ES UN SISTEMA DE GAS EN MOVIMIENTO, LÍQUIDO Y SÓLIDO, CON NUMEROSOS COMPONENTES INTERCONECTADOS E INDEPENDIENTES</a:t>
            </a:r>
            <a:endParaRPr b="0" lang="en-US" sz="2400" spc="-1" strike="noStrike">
              <a:solidFill>
                <a:srgbClr val="000000"/>
              </a:solidFill>
              <a:latin typeface="Times New Roman"/>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2200" indent="-322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ESTA PERSPECTIVA RECIENTE, Y PARA ENTENDER LOS DIFERENTES  SISTEMAS,  RITMOS  Y  CICLOS  NATURALES  QUE CONTROLAN SU EVOLUCIÓN  PLANETARIA,  TENEMOS QUE EXPANDIR EL ÁMBITO DE LOS ESTUDIOS  A  LAS DISTINTAS  ESCALAS  DE OBSERVACIÓN, ESTO  ES,  </a:t>
            </a:r>
            <a:r>
              <a:rPr b="1" lang="es-ES" sz="2400" spc="-1" strike="noStrike" u="sng">
                <a:solidFill>
                  <a:srgbClr val="ffffff"/>
                </a:solidFill>
                <a:uFillTx/>
                <a:latin typeface="Times New Roman"/>
              </a:rPr>
              <a:t>DE LO  TELESCÓPICO A LO MICROSCÓPIC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393F18E-4EC9-4279-8ACA-84A0A9A043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CALA DE OBSERVACIÓN GEOLÓGICA</a:t>
            </a:r>
            <a:endParaRPr b="0" lang="en-US" sz="2800" spc="-1" strike="noStrike">
              <a:solidFill>
                <a:srgbClr val="000000"/>
              </a:solidFill>
              <a:latin typeface="Times New Roman"/>
            </a:endParaRPr>
          </a:p>
        </p:txBody>
      </p:sp>
      <p:pic>
        <p:nvPicPr>
          <p:cNvPr id="70" name="capture002" descr=""/>
          <p:cNvPicPr/>
          <p:nvPr/>
        </p:nvPicPr>
        <p:blipFill>
          <a:blip r:embed="rId1"/>
          <a:stretch/>
        </p:blipFill>
        <p:spPr>
          <a:xfrm>
            <a:off x="1143000" y="1371600"/>
            <a:ext cx="3578400" cy="4473720"/>
          </a:xfrm>
          <a:prstGeom prst="rect">
            <a:avLst/>
          </a:prstGeom>
          <a:ln w="0">
            <a:noFill/>
          </a:ln>
        </p:spPr>
      </p:pic>
      <p:pic>
        <p:nvPicPr>
          <p:cNvPr id="71" name="capture001" descr=""/>
          <p:cNvPicPr/>
          <p:nvPr/>
        </p:nvPicPr>
        <p:blipFill>
          <a:blip r:embed="rId2"/>
          <a:stretch/>
        </p:blipFill>
        <p:spPr>
          <a:xfrm>
            <a:off x="5105520" y="2438280"/>
            <a:ext cx="2971800" cy="2313000"/>
          </a:xfrm>
          <a:prstGeom prst="rect">
            <a:avLst/>
          </a:prstGeom>
          <a:ln w="0">
            <a:noFill/>
          </a:ln>
        </p:spPr>
      </p:pic>
      <p:sp>
        <p:nvSpPr>
          <p:cNvPr id="72" name=""/>
          <p:cNvSpPr/>
          <p:nvPr/>
        </p:nvSpPr>
        <p:spPr>
          <a:xfrm flipV="1">
            <a:off x="3505320" y="2437920"/>
            <a:ext cx="1600200" cy="762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29000" y="3276720"/>
            <a:ext cx="1676520" cy="14475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696954D-3897-4BB4-9659-8E8519A1A2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LOS SISTEMAS GEOLÓGICOS DE LA TIERRA</a:t>
            </a:r>
            <a:endParaRPr b="0" lang="en-US" sz="2500" spc="-1" strike="noStrike">
              <a:solidFill>
                <a:srgbClr val="000000"/>
              </a:solidFill>
              <a:latin typeface="Times New Roman"/>
            </a:endParaRPr>
          </a:p>
        </p:txBody>
      </p:sp>
      <p:sp>
        <p:nvSpPr>
          <p:cNvPr id="75"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fontScale="98000"/>
          </a:bodyPr>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UN SISTEMA GEOLÓGICO,  O  NATURAL, ES UN GRUPO COMPUESTO DE MATERIALES, QUE INTERACTÚAN PARA FORMAR UN TODO UNIFICADO,  BAJO LA INFLUENCIA DE FUERZAS RELACIONADAS</a:t>
            </a:r>
            <a:endParaRPr b="0" lang="en-US" sz="2500" spc="-1" strike="noStrike">
              <a:solidFill>
                <a:srgbClr val="000000"/>
              </a:solidFill>
              <a:latin typeface="Times New Roman"/>
            </a:endParaRPr>
          </a:p>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TODOS  LOS CAMBIOS  DE LA  MATERIA, DE UN ESTADO A OTRO  OTRO,  COMO  LA  ENERGÍA RESPONSABLE DE  LA INTERACCIÓN DE LOS ELEMENTOS,  DEFINEN SISTEMAS GEOLÓGICOS</a:t>
            </a:r>
            <a:endParaRPr b="0" lang="en-US" sz="2500" spc="-1" strike="noStrike">
              <a:solidFill>
                <a:srgbClr val="000000"/>
              </a:solidFill>
              <a:latin typeface="Times New Roman"/>
            </a:endParaRPr>
          </a:p>
          <a:p>
            <a:pPr marL="335880" indent="-3358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TODOS LOS CAMBIOS DE LOS SISTEMAS NATURALES  OCURREN BUSCANDO ESTABLECER Y MANTENER UN EQUILIBRIO  O BALANCE PERFECTO ENTRE LAS DIFERENTES FUERZAS QUE INTERACTÚAN EN LA NATURALEZA</a:t>
            </a:r>
            <a:endParaRPr b="0" lang="en-US" sz="2500" spc="-1" strike="noStrike">
              <a:solidFill>
                <a:srgbClr val="000000"/>
              </a:solidFill>
              <a:latin typeface="Times New Roman"/>
            </a:endParaRPr>
          </a:p>
        </p:txBody>
      </p:sp>
      <p:sp>
        <p:nvSpPr>
          <p:cNvPr id="4" name="PlaceHolder 3"/>
          <p:cNvSpPr>
            <a:spLocks noGrp="1"/>
          </p:cNvSpPr>
          <p:nvPr>
            <p:ph type="sldNum" idx="3"/>
          </p:nvPr>
        </p:nvSpPr>
        <p:spPr/>
        <p:txBody>
          <a:bodyPr/>
          <a:p>
            <a:fld id="{E5368900-71A2-47E7-A3AF-505161591C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04920" y="837720"/>
            <a:ext cx="8534160" cy="3581640"/>
          </a:xfrm>
          <a:prstGeom prst="rect">
            <a:avLst/>
          </a:prstGeom>
          <a:noFill/>
          <a:ln w="0">
            <a:noFill/>
          </a:ln>
        </p:spPr>
        <p:txBody>
          <a:bodyPr lIns="90000" rIns="90000" tIns="46800" bIns="46800" anchor="t">
            <a:normAutofit/>
          </a:bodyPr>
          <a:p>
            <a:pPr marL="343080" indent="-343080">
              <a:lnSpc>
                <a:spcPct val="90000"/>
              </a:lnSpc>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 los sistemas geológicos naturales los cambios de la  materia, de un estado a otro, como  la  energía responsable de  la interacción de los elementos, ocurren en la dirección necesaria para establecer y mantener el equilibrio o balance perfecto entre las diferentes fuerzas que interactúan en la naturaleza, a condición de u</a:t>
            </a:r>
            <a:r>
              <a:rPr b="0" lang="es-MX" sz="2800" spc="-1" strike="noStrike">
                <a:solidFill>
                  <a:srgbClr val="ffffff"/>
                </a:solidFill>
                <a:latin typeface="Arial"/>
                <a:ea typeface="Arial"/>
              </a:rPr>
              <a:t>n </a:t>
            </a:r>
            <a:r>
              <a:rPr b="0" lang="es-ES" sz="2800" spc="-1" strike="noStrike">
                <a:solidFill>
                  <a:srgbClr val="ffffff"/>
                </a:solidFill>
                <a:latin typeface="Arial"/>
                <a:ea typeface="Arial"/>
              </a:rPr>
              <a:t>energía lo mas baja posible.</a:t>
            </a:r>
            <a:r>
              <a:rPr b="0" lang="es-ES" sz="5400" spc="-1" strike="noStrike">
                <a:solidFill>
                  <a:srgbClr val="000000"/>
                </a:solidFill>
                <a:latin typeface="Arial"/>
                <a:ea typeface="Arial"/>
              </a:rPr>
              <a:t> </a:t>
            </a:r>
            <a:endParaRPr b="0" lang="en-US" sz="5400" spc="-1" strike="noStrike">
              <a:solidFill>
                <a:srgbClr val="000000"/>
              </a:solidFill>
              <a:latin typeface="Times New Roman"/>
            </a:endParaRPr>
          </a:p>
        </p:txBody>
      </p:sp>
      <p:sp>
        <p:nvSpPr>
          <p:cNvPr id="3" name="PlaceHolder 2"/>
          <p:cNvSpPr>
            <a:spLocks noGrp="1"/>
          </p:cNvSpPr>
          <p:nvPr>
            <p:ph type="sldNum" idx="3"/>
          </p:nvPr>
        </p:nvSpPr>
        <p:spPr/>
        <p:txBody>
          <a:bodyPr/>
          <a:p>
            <a:fld id="{F01F7187-80D3-4FD8-BFB8-E085DC2236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8" name="PlaceHolder 2"/>
          <p:cNvSpPr>
            <a:spLocks noGrp="1"/>
          </p:cNvSpPr>
          <p:nvPr>
            <p:ph/>
          </p:nvPr>
        </p:nvSpPr>
        <p:spPr>
          <a:xfrm>
            <a:off x="304920" y="304920"/>
            <a:ext cx="8534160" cy="63244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    </a:t>
            </a:r>
            <a:r>
              <a:rPr b="1" lang="es-ES" sz="2800" spc="-1" strike="noStrike">
                <a:solidFill>
                  <a:srgbClr val="ffffff"/>
                </a:solidFill>
                <a:latin typeface="Arial"/>
                <a:ea typeface="Arial"/>
              </a:rPr>
              <a:t>Sabemos que la Tierra es tan solo una parte pequeña de un gran sistema conocido como </a:t>
            </a:r>
            <a:r>
              <a:rPr b="1" i="1" lang="es-ES" sz="2800" spc="-1" strike="noStrike">
                <a:solidFill>
                  <a:srgbClr val="ffffff"/>
                </a:solidFill>
                <a:latin typeface="Arial"/>
                <a:ea typeface="Arial"/>
              </a:rPr>
              <a:t>Sistema Solar.</a:t>
            </a:r>
            <a:r>
              <a:rPr b="1" lang="es-ES" sz="2800" spc="-1" strike="noStrike">
                <a:solidFill>
                  <a:srgbClr val="ffffff"/>
                </a:solidFill>
                <a:latin typeface="Arial"/>
                <a:ea typeface="Arial"/>
              </a:rPr>
              <a:t> A medida que la estudiamos, resulta también claro que nuestro planeta puede considerarse como un sistema con muchas partes independientes, pero interactuantes, o subsistemas. </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Arial"/>
              </a:rPr>
              <a:t>    </a:t>
            </a:r>
            <a:r>
              <a:rPr b="1" lang="es-ES" sz="2800" spc="-1" strike="noStrike">
                <a:solidFill>
                  <a:srgbClr val="ffffff"/>
                </a:solidFill>
                <a:latin typeface="Arial"/>
                <a:ea typeface="Arial"/>
              </a:rPr>
              <a:t>La hidrosfera, la atmósfera, la biosfera, la tierra sólida y todos sus componentes pueden estudiarse por separado. Sin embargo, las partes no están aisladas. Cada una se relaciona de alguna manera con las otras para producir un todo complejo y continuamente interactuante que denominamos </a:t>
            </a:r>
            <a:r>
              <a:rPr b="1" i="1" lang="es-ES" sz="2800" spc="-1" strike="noStrike">
                <a:solidFill>
                  <a:srgbClr val="ffffff"/>
                </a:solidFill>
                <a:latin typeface="Arial"/>
                <a:ea typeface="Arial"/>
              </a:rPr>
              <a:t>el sistema Tierra.</a:t>
            </a:r>
            <a:r>
              <a:rPr b="1" lang="es-ES"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0ECA796-8364-48CC-81B1-586CD54974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609120"/>
            <a:ext cx="807732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PlaceHolder 2"/>
          <p:cNvSpPr>
            <a:spLocks noGrp="1"/>
          </p:cNvSpPr>
          <p:nvPr>
            <p:ph/>
          </p:nvPr>
        </p:nvSpPr>
        <p:spPr>
          <a:xfrm>
            <a:off x="609120" y="685800"/>
            <a:ext cx="7696440" cy="2209680"/>
          </a:xfrm>
          <a:prstGeom prst="rect">
            <a:avLst/>
          </a:prstGeom>
          <a:noFill/>
          <a:ln w="0">
            <a:noFill/>
          </a:ln>
        </p:spPr>
        <p:txBody>
          <a:bodyPr lIns="90000" rIns="90000" tIns="46800" bIns="46800" anchor="t">
            <a:normAutofit fontScale="55000"/>
          </a:bodyPr>
          <a:p>
            <a:pPr marL="188640" indent="-188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E TRATA DE  UNA CIENCIA MULTIDISCIPLINARIA,  QUE  APLICA LOS PRINCIPIOS DE LAS CIENCIAS FUNDAMENTALES,   </a:t>
            </a: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COMO  LA FÍSICA, LA QUÍMICA,  LA BIOLOGÍA Y  LAS MATEMÁTICAS.....</a:t>
            </a:r>
            <a:endParaRPr b="0" lang="en-US" sz="3200" spc="-1" strike="noStrike">
              <a:solidFill>
                <a:srgbClr val="000000"/>
              </a:solidFill>
              <a:latin typeface="Times New Roman"/>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y   también  de otras ciencias  multidisciplinarias  como es la Astronomía</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269C25-D1A2-4AF1-AE6B-4A57B3B05D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04920" y="533160"/>
            <a:ext cx="8534160" cy="6095880"/>
          </a:xfrm>
          <a:prstGeom prst="rect">
            <a:avLst/>
          </a:prstGeom>
          <a:noFill/>
          <a:ln w="0">
            <a:noFill/>
          </a:ln>
        </p:spPr>
        <p:txBody>
          <a:bodyPr lIns="90000" rIns="90000" tIns="46800" bIns="46800" anchor="t">
            <a:normAutofit/>
          </a:bodyPr>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OS MATERIALES EN EL SISTEMA CAMBIAN,  EN UN ESFUERZO POR ALCANZAR Y MANTENER UN EQUILIBRIO</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A MAYORÍA DE LOS SISTEMAS GEOLÓGICOS SON ABIERTOS, ESTO ES, PUEDEN INTERCAMBIAR ENTRE ELLOS MATERIA Y ENERGÍA</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OS SISTEMAS GEOLÓGICOS CERRADOS SON CAPACES DE INTERCAMBIAR CALOR , PERO NO MATERIA</a:t>
            </a:r>
            <a:endParaRPr b="0" lang="en-US" sz="25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EN LOS SISTEMAS NATURALES LOS CAMBIOS  OCURREN EN LA DIRECCIÓN NECESARIA PARA ESTABLECER Y MANTENER EL EQUILIBRIO,  A CONDICIÓN  DE  UNA  ENERGÍA LO MAS BAJA POSIBLE</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A70F4900-B8F7-4676-B444-19FFB7ABB9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80520" y="533160"/>
            <a:ext cx="8458200" cy="601956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CONCEPTO DUAL DE  SISTEMA  Y EQUILIBRIO,  COMO HA SIDO DESARROLLADO EN LOS ESTUDIOS GEOLÓGICOS,  PROVEE UN MARCO PARA COMPRENDER COMO CADA PARTE DE LA TIERRA TRABAJA Y PORQUÉ ESTÁ CONSTANTEMENTE CAMBIANDO</a:t>
            </a:r>
            <a:endParaRPr b="0" lang="en-US" sz="20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STE CONCEPTO PUEDE VERSE EN TODAS LAS ESCALAS DE TIEMPO Y ESPACIO;  NADA ES CASUALIDAD  NI SE DEJA  AL AZAR,  SIN ORDEN Y CONCIERTO</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CADA COSA   - DESDE UN GRANO DE ARENA EN LA PLAYA,  A  UN LAGO, O  A UNA CADENA DE MONTAÑA -   ESTÁ  ALLÍ  DEBIDO A QUE FUE FORMADO DE MANERA SISTEMÁTICA, POR UNA ORGANIZADA INTERACCIÓN DE MATERIA Y ENERGÍA</a:t>
            </a:r>
            <a:endParaRPr b="0" lang="en-US" sz="20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OS SISTEMAS GEOLÓGICOS DINÁMICOS ESTÁN GOBERNADOS POR LEYES NATURALES, QUE PROVEEN  LA LLAVE PARA ENTENDER LA TIERRA Y TODOS SUS VARIADOS PAISAJES Y PROCESO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B957F29-2246-4EAE-891A-4C69D71FC4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aphicFrame>
        <p:nvGraphicFramePr>
          <p:cNvPr id="81" name=""/>
          <p:cNvGraphicFramePr/>
          <p:nvPr/>
        </p:nvGraphicFramePr>
        <p:xfrm>
          <a:off x="838080" y="990720"/>
          <a:ext cx="7467840" cy="4495680"/>
        </p:xfrm>
        <a:graphic>
          <a:graphicData uri="http://schemas.openxmlformats.org/presentationml/2006/ole">
            <p:oleObj progId="PowerPoint.Show.12" r:id="rId1" spid="">
              <p:embed/>
              <p:pic>
                <p:nvPicPr>
                  <p:cNvPr id="82" name="" descr=""/>
                  <p:cNvPicPr/>
                  <p:nvPr/>
                </p:nvPicPr>
                <p:blipFill>
                  <a:blip r:embed="rId2"/>
                  <a:stretch/>
                </p:blipFill>
                <p:spPr>
                  <a:xfrm>
                    <a:off x="838080" y="990720"/>
                    <a:ext cx="7467840" cy="4495680"/>
                  </a:xfrm>
                  <a:prstGeom prst="rect">
                    <a:avLst/>
                  </a:prstGeom>
                  <a:ln w="0">
                    <a:noFill/>
                  </a:ln>
                </p:spPr>
              </p:pic>
            </p:oleObj>
          </a:graphicData>
        </a:graphic>
      </p:graphicFrame>
      <p:sp>
        <p:nvSpPr>
          <p:cNvPr id="2" name="PlaceHolder 1"/>
          <p:cNvSpPr>
            <a:spLocks noGrp="1"/>
          </p:cNvSpPr>
          <p:nvPr>
            <p:ph type="sldNum" idx="3"/>
          </p:nvPr>
        </p:nvSpPr>
        <p:spPr/>
        <p:txBody>
          <a:bodyPr/>
          <a:p>
            <a:fld id="{3C311D94-079B-431A-B884-D452B05A09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3" name=""/>
          <p:cNvSpPr/>
          <p:nvPr/>
        </p:nvSpPr>
        <p:spPr>
          <a:xfrm>
            <a:off x="533520" y="304920"/>
            <a:ext cx="807696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L   GEÓLOGO   EN LA LÍNEA   CIENTÍF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PETROLOGÍA</a:t>
            </a:r>
            <a:r>
              <a:rPr b="0" lang="es-ES_tradnl" sz="1800" spc="-1" strike="noStrike">
                <a:solidFill>
                  <a:srgbClr val="ffffff"/>
                </a:solidFill>
                <a:latin typeface="Times New Roman"/>
              </a:rPr>
              <a:t>, que estudia los procesos de formación de las rocas y  miner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LOGÍA REGIONAL</a:t>
            </a:r>
            <a:r>
              <a:rPr b="0" lang="es-ES_tradnl" sz="1800" spc="-1" strike="noStrike">
                <a:solidFill>
                  <a:srgbClr val="ffffff"/>
                </a:solidFill>
                <a:latin typeface="Times New Roman"/>
              </a:rPr>
              <a:t>, que estudia la historia geológica de una región determinada, definiendo  la distribución  temporal y espacial de las distintas unidades  geológicas  presentes  </a:t>
            </a:r>
            <a:r>
              <a:rPr b="0" i="1" lang="es-ES_tradnl" sz="1800" spc="-1" strike="noStrike">
                <a:solidFill>
                  <a:srgbClr val="ffffff"/>
                </a:solidFill>
                <a:latin typeface="Times New Roman"/>
              </a:rPr>
              <a:t>(</a:t>
            </a:r>
            <a:r>
              <a:rPr b="0" i="1" lang="es-ES_tradnl" sz="1800" spc="-1" strike="noStrike">
                <a:solidFill>
                  <a:srgbClr val="ffffff"/>
                </a:solidFill>
                <a:latin typeface="Times New Roman"/>
              </a:rPr>
              <a:t>paleogeografías sucesivas</a:t>
            </a:r>
            <a:r>
              <a:rPr b="0" i="1" lang="es-ES_tradnl" sz="1800" spc="-1" strike="noStrike">
                <a:solidFill>
                  <a:srgbClr val="ffffff"/>
                </a:solidFill>
                <a:latin typeface="Times New Roman"/>
              </a:rPr>
              <a:t>)</a:t>
            </a:r>
            <a:r>
              <a:rPr b="0" lang="es-ES_tradnl" sz="1800" spc="-1" strike="noStrike">
                <a:solidFill>
                  <a:srgbClr val="ffffff"/>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DINÁMICA</a:t>
            </a:r>
            <a:r>
              <a:rPr b="0" lang="es-ES_tradnl" sz="1800" spc="-1" strike="noStrike">
                <a:solidFill>
                  <a:srgbClr val="ffffff"/>
                </a:solidFill>
                <a:latin typeface="Times New Roman"/>
              </a:rPr>
              <a:t>,  que se encarga de entender los procesos  dinámicos   que deforman  la corteza  y  son capaces de generar,  por ejemplo, cadenas de montañas plegadas   (cordilleras )  y  cuencas oceánicas.  Busca determinar  la interacción y cronología de los sistemas geodinámicos  interno y externo  que  afectan al planeta, creando y destruyendo materia, y modificando el paisaje de su superficie  </a:t>
            </a:r>
            <a:r>
              <a:rPr b="0" i="1" lang="es-ES_tradnl" sz="1800" spc="-1" strike="noStrike">
                <a:solidFill>
                  <a:srgbClr val="ffffff"/>
                </a:solidFill>
                <a:latin typeface="Times New Roman"/>
              </a:rPr>
              <a:t>(paleogreografías  glob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PALEONTOLOGÍA</a:t>
            </a:r>
            <a:r>
              <a:rPr b="0" lang="es-ES_tradnl" sz="1800" spc="-1" strike="noStrike">
                <a:solidFill>
                  <a:srgbClr val="ffffff"/>
                </a:solidFill>
                <a:latin typeface="Times New Roman"/>
              </a:rPr>
              <a:t>,  que se preocupa de las formas de vida del pasa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VOCANOLOGÍA</a:t>
            </a:r>
            <a:r>
              <a:rPr b="0" lang="es-ES_tradnl" sz="1800" spc="-1" strike="noStrike">
                <a:solidFill>
                  <a:srgbClr val="ffffff"/>
                </a:solidFill>
                <a:latin typeface="Times New Roman"/>
              </a:rPr>
              <a:t>,  que estudia los volcan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EOLOGÍA MARINA</a:t>
            </a:r>
            <a:r>
              <a:rPr b="0" lang="es-ES_tradnl" sz="1800" spc="-1" strike="noStrike">
                <a:solidFill>
                  <a:srgbClr val="ffffff"/>
                </a:solidFill>
                <a:latin typeface="Times New Roman"/>
              </a:rPr>
              <a:t>, que se ocupa del estudio de los fondos oceán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GLACIOLOGÍ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SISMOTECTÓNIC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METALOGÉNES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L PALEOMAGNETISMO,  LA PALEOSISMICIDAD,  LA  GEOQUÍMIC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FF7FC34-E54E-4374-87CD-D37DBA42E7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5341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CURSOS   NATURALES</a:t>
            </a:r>
            <a:br>
              <a:rPr sz="2400"/>
            </a:br>
            <a:r>
              <a:rPr b="1" lang="es-ES_tradnl" sz="2000" spc="-1" strike="noStrike">
                <a:solidFill>
                  <a:srgbClr val="ffffff"/>
                </a:solidFill>
                <a:latin typeface="Times New Roman"/>
              </a:rPr>
              <a:t>(los  materiales y fuerzas de la naturaleza son recursos naturales,  que se aprovechan para uso  y beneficio de la  humanidad)</a:t>
            </a:r>
            <a:endParaRPr b="0" lang="en-US" sz="2000" spc="-1" strike="noStrike">
              <a:solidFill>
                <a:srgbClr val="000000"/>
              </a:solidFill>
              <a:latin typeface="Times New Roman"/>
            </a:endParaRPr>
          </a:p>
        </p:txBody>
      </p:sp>
      <p:sp>
        <p:nvSpPr>
          <p:cNvPr id="85" name="PlaceHolder 2"/>
          <p:cNvSpPr>
            <a:spLocks noGrp="1"/>
          </p:cNvSpPr>
          <p:nvPr>
            <p:ph/>
          </p:nvPr>
        </p:nvSpPr>
        <p:spPr>
          <a:xfrm>
            <a:off x="761760" y="1676160"/>
            <a:ext cx="38098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RENOVABLES</a:t>
            </a:r>
            <a:endParaRPr b="0" lang="en-US" sz="2800" spc="-1" strike="noStrike">
              <a:solidFill>
                <a:srgbClr val="000000"/>
              </a:solidFill>
              <a:latin typeface="Times New Roman"/>
            </a:endParaRPr>
          </a:p>
        </p:txBody>
      </p:sp>
      <p:sp>
        <p:nvSpPr>
          <p:cNvPr id="86" name="PlaceHolder 3"/>
          <p:cNvSpPr>
            <a:spLocks noGrp="1"/>
          </p:cNvSpPr>
          <p:nvPr>
            <p:ph/>
          </p:nvPr>
        </p:nvSpPr>
        <p:spPr>
          <a:xfrm>
            <a:off x="4724280" y="1676520"/>
            <a:ext cx="3810240" cy="411480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u="sng">
                <a:solidFill>
                  <a:srgbClr val="ffffff"/>
                </a:solidFill>
                <a:uFillTx/>
                <a:latin typeface="Times New Roman"/>
              </a:rPr>
              <a:t>NO  RENOVABLES</a:t>
            </a:r>
            <a:endParaRPr b="0" lang="en-US" sz="2800" spc="-1" strike="noStrike">
              <a:solidFill>
                <a:srgbClr val="000000"/>
              </a:solidFill>
              <a:latin typeface="Times New Roman"/>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metálicos: </a:t>
            </a:r>
            <a:r>
              <a:rPr b="0" lang="es-ES_tradnl" sz="2000" spc="-1" strike="noStrike">
                <a:solidFill>
                  <a:srgbClr val="ffffff"/>
                </a:solidFill>
                <a:latin typeface="Times New Roman"/>
              </a:rPr>
              <a:t>minería metálica ( Cu, Fe, Au, Sn, Mn)</a:t>
            </a:r>
            <a:r>
              <a:rPr b="0" lang="es-ES_tradnl" sz="2800" spc="-1" strike="noStrike">
                <a:solidFill>
                  <a:srgbClr val="ffffff"/>
                </a:solidFill>
                <a:latin typeface="Times New Roman"/>
              </a:rPr>
              <a:t>   </a:t>
            </a:r>
            <a:endParaRPr b="0" lang="en-US" sz="2800" spc="-1" strike="noStrike">
              <a:solidFill>
                <a:srgbClr val="000000"/>
              </a:solidFill>
              <a:latin typeface="Times New Roman"/>
            </a:endParaRPr>
          </a:p>
          <a:p>
            <a:pPr marL="315360" indent="-31536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metálicos: </a:t>
            </a:r>
            <a:r>
              <a:rPr b="0" lang="es-ES_tradnl" sz="2000" spc="-1" strike="noStrike">
                <a:solidFill>
                  <a:srgbClr val="ffffff"/>
                </a:solidFill>
                <a:latin typeface="Times New Roman"/>
              </a:rPr>
              <a:t>minería no metálica</a:t>
            </a:r>
            <a:r>
              <a:rPr b="0" lang="es-ES_tradnl" sz="2800" spc="-1" strike="noStrike">
                <a:solidFill>
                  <a:srgbClr val="ffffff"/>
                </a:solidFill>
                <a:latin typeface="Times New Roman"/>
              </a:rPr>
              <a:t>  </a:t>
            </a:r>
            <a:r>
              <a:rPr b="0" lang="es-ES_tradnl" sz="2000" spc="-1" strike="noStrike">
                <a:solidFill>
                  <a:srgbClr val="ffffff"/>
                </a:solidFill>
                <a:latin typeface="Times New Roman"/>
              </a:rPr>
              <a:t>(petroleo, carbón,  yeso,  sal,  yodo, “cemento”,  litio, otros..) </a:t>
            </a:r>
            <a:endParaRPr b="0" lang="en-US" sz="2000" spc="-1" strike="noStrike">
              <a:solidFill>
                <a:srgbClr val="000000"/>
              </a:solidFill>
              <a:latin typeface="Times New Roman"/>
            </a:endParaRPr>
          </a:p>
          <a:p>
            <a:pPr marL="315360" indent="-31536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ergía: </a:t>
            </a:r>
            <a:r>
              <a:rPr b="1" lang="es-ES_tradnl" sz="2000" spc="-1" strike="noStrike">
                <a:solidFill>
                  <a:srgbClr val="ffffff"/>
                </a:solidFill>
                <a:latin typeface="Times New Roman"/>
              </a:rPr>
              <a:t> </a:t>
            </a:r>
            <a:r>
              <a:rPr b="0" lang="es-ES_tradnl" sz="2000" spc="-1" strike="noStrike">
                <a:solidFill>
                  <a:srgbClr val="ffffff"/>
                </a:solidFill>
                <a:latin typeface="Times New Roman"/>
              </a:rPr>
              <a:t>geotérmica,  nuclear, radioactiva,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1143000" y="2743200"/>
            <a:ext cx="914400" cy="609480"/>
          </a:xfrm>
          <a:prstGeom prst="rect">
            <a:avLst/>
          </a:prstGeom>
          <a:ln w="0">
            <a:noFill/>
          </a:ln>
        </p:spPr>
      </p:pic>
      <p:pic>
        <p:nvPicPr>
          <p:cNvPr id="88" name="" descr=""/>
          <p:cNvPicPr/>
          <p:nvPr/>
        </p:nvPicPr>
        <p:blipFill>
          <a:blip r:embed="rId2"/>
          <a:stretch/>
        </p:blipFill>
        <p:spPr>
          <a:xfrm>
            <a:off x="2286000" y="2590920"/>
            <a:ext cx="838080" cy="914400"/>
          </a:xfrm>
          <a:prstGeom prst="rect">
            <a:avLst/>
          </a:prstGeom>
          <a:ln w="0">
            <a:noFill/>
          </a:ln>
        </p:spPr>
      </p:pic>
      <p:pic>
        <p:nvPicPr>
          <p:cNvPr id="89" name="" descr=""/>
          <p:cNvPicPr/>
          <p:nvPr/>
        </p:nvPicPr>
        <p:blipFill>
          <a:blip r:embed="rId3"/>
          <a:stretch/>
        </p:blipFill>
        <p:spPr>
          <a:xfrm>
            <a:off x="1143000" y="3581280"/>
            <a:ext cx="1295280" cy="1143000"/>
          </a:xfrm>
          <a:prstGeom prst="rect">
            <a:avLst/>
          </a:prstGeom>
          <a:ln w="0">
            <a:noFill/>
          </a:ln>
        </p:spPr>
      </p:pic>
      <p:pic>
        <p:nvPicPr>
          <p:cNvPr id="90" name="" descr=""/>
          <p:cNvPicPr/>
          <p:nvPr/>
        </p:nvPicPr>
        <p:blipFill>
          <a:blip r:embed="rId4"/>
          <a:stretch/>
        </p:blipFill>
        <p:spPr>
          <a:xfrm>
            <a:off x="1143000" y="4876920"/>
            <a:ext cx="1295280" cy="914400"/>
          </a:xfrm>
          <a:prstGeom prst="rect">
            <a:avLst/>
          </a:prstGeom>
          <a:ln w="0">
            <a:noFill/>
          </a:ln>
        </p:spPr>
      </p:pic>
      <p:sp>
        <p:nvSpPr>
          <p:cNvPr id="91" name=""/>
          <p:cNvSpPr/>
          <p:nvPr/>
        </p:nvSpPr>
        <p:spPr>
          <a:xfrm>
            <a:off x="5638680" y="1295280"/>
            <a:ext cx="7621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590560" y="1295280"/>
            <a:ext cx="685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C5F7728-982B-494A-B379-CAA090AF17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ISTEMAS DINÁMICOS DE LA TIERRA</a:t>
            </a:r>
            <a:endParaRPr b="0" lang="en-US" sz="3600" spc="-1" strike="noStrike">
              <a:solidFill>
                <a:srgbClr val="000000"/>
              </a:solidFill>
              <a:latin typeface="Times New Roman"/>
            </a:endParaRPr>
          </a:p>
        </p:txBody>
      </p:sp>
      <p:sp>
        <p:nvSpPr>
          <p:cNvPr id="95" name="PlaceHolder 2"/>
          <p:cNvSpPr>
            <a:spLocks noGrp="1"/>
          </p:cNvSpPr>
          <p:nvPr>
            <p:ph/>
          </p:nvPr>
        </p:nvSpPr>
        <p:spPr>
          <a:xfrm>
            <a:off x="380520" y="1828440"/>
            <a:ext cx="8534520" cy="441972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LA TIERRA ES UN PLANETA DINÁMICO DEBIDO A QUE LOS MATERIALES DE  LAS DIFERENTES CAPAS CONCÉNTRICAS QUE LA FORMAN (en estado de gas, líquido y sólido) ESTÁN EN MOVIMIENTO CONSTANTE</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Times New Roman"/>
              </a:rPr>
              <a:t>EL MOVIMIENTO DE LOS MATERIALES EN LAS CAPAS INTERNAS DE LA TIERRA (núcleo - manto – astenósfera - litósfera)   NO ES TAN OBVIO Y SU ESTUDIO ES  MÁS COMPLEJO</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E1DF7519-0B88-45D9-955C-6F0F6DBC55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6" name=""/>
          <p:cNvSpPr/>
          <p:nvPr/>
        </p:nvSpPr>
        <p:spPr>
          <a:xfrm>
            <a:off x="304920" y="762120"/>
            <a:ext cx="8458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El sistema Tierra es impulsado por la energía procedente de dos fuentes. El Sol impulsa los procesos externos que tienen lugar en la atmósfera, la </a:t>
            </a:r>
            <a:r>
              <a:rPr b="1" i="1" lang="es-ES_tradnl" sz="2400" spc="-1" strike="noStrike">
                <a:solidFill>
                  <a:srgbClr val="ffffff"/>
                </a:solidFill>
                <a:latin typeface="Arial"/>
                <a:ea typeface="Arial"/>
              </a:rPr>
              <a:t>hidrosfera</a:t>
            </a:r>
            <a:r>
              <a:rPr b="0" lang="es-ES_tradnl" sz="2400" spc="-1" strike="noStrike">
                <a:solidFill>
                  <a:srgbClr val="ffffff"/>
                </a:solidFill>
                <a:latin typeface="Arial"/>
                <a:ea typeface="Arial"/>
              </a:rPr>
              <a:t> y la superficie de la Tierra  </a:t>
            </a:r>
            <a:r>
              <a:rPr b="0" i="1" lang="es-ES_tradnl" sz="2400" spc="-1" strike="noStrike">
                <a:solidFill>
                  <a:srgbClr val="ffffff"/>
                </a:solidFill>
                <a:latin typeface="Arial"/>
                <a:ea typeface="Arial"/>
              </a:rPr>
              <a:t>(procesos exógenos).</a:t>
            </a:r>
            <a:r>
              <a:rPr b="0" lang="es-ES_tradnl" sz="2400" spc="-1" strike="noStrike">
                <a:solidFill>
                  <a:srgbClr val="ffffff"/>
                </a:solidFill>
                <a:latin typeface="Arial"/>
                <a:ea typeface="Arial"/>
              </a:rPr>
              <a:t>  El clima, la circulación de los océanos y los procesos erosivos son accionados por la energía del So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a:t>
            </a:r>
            <a:r>
              <a:rPr b="0" lang="es-ES_tradnl" sz="2400" spc="-1" strike="noStrike">
                <a:solidFill>
                  <a:srgbClr val="ffffff"/>
                </a:solidFill>
                <a:latin typeface="Arial"/>
                <a:ea typeface="Arial"/>
              </a:rPr>
              <a:t>El interior de la Tierra es la segunda fuente de energía. El calor que queda de cuando se formó nuestro planeta y el calor que esta siendo continua­mente generado por la desintegración radiactiva impulsa los procesos internos que producen los volcanes, los terremotos y las montañas (</a:t>
            </a:r>
            <a:r>
              <a:rPr b="0" i="1" lang="es-ES_tradnl" sz="2400" spc="-1" strike="noStrike">
                <a:solidFill>
                  <a:srgbClr val="ffffff"/>
                </a:solidFill>
                <a:latin typeface="Arial"/>
                <a:ea typeface="Arial"/>
              </a:rPr>
              <a:t>procesos endógenos</a:t>
            </a:r>
            <a:r>
              <a:rPr b="0" lang="es-ES_tradnl" sz="2400" spc="-1" strike="noStrike">
                <a:solidFill>
                  <a:srgbClr val="ffffff"/>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271C281-C72C-435D-AB9A-1907019743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457200"/>
            <a:ext cx="8610480" cy="5943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ES NECESARIA EN TODOS LOS PROCESOS DINÁMICOS. LAS FORMAS DE LA ENERGÍA MAS IMPORTANTES  SON:</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térm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cinét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gravitatoria potencial</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química</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nergía  nuclear.</a:t>
            </a:r>
            <a:r>
              <a:rPr b="1" lang="es-ES" sz="2000" spc="-1" strike="noStrike">
                <a:solidFill>
                  <a:srgbClr val="ffffff"/>
                </a:solidFill>
                <a:latin typeface="Times New Roman"/>
              </a:rPr>
              <a:t>  </a:t>
            </a:r>
            <a:endParaRPr b="0" lang="en-US" sz="20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PUEDE CAMBIAR DE UNA FORMA A OTRA, PERO NO SE CREA NI SE DESTRUYE</a:t>
            </a:r>
            <a:endParaRPr b="0" lang="en-US" sz="2400" spc="-1" strike="noStrike">
              <a:solidFill>
                <a:srgbClr val="000000"/>
              </a:solidFill>
              <a:latin typeface="Times New Roman"/>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SISTEMAS DINÁMICOS MAYORES DE LA TIERRA SON:</a:t>
            </a:r>
            <a:endParaRPr b="0" lang="en-US" sz="24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SISTEMA HIDROLÓGICO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SISTEMA TECTÓNICO </a:t>
            </a:r>
            <a:endParaRPr b="0" lang="en-US" sz="2000" spc="-1" strike="noStrike">
              <a:solidFill>
                <a:srgbClr val="000000"/>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ISOSTACI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B509407-72A9-4D62-BC89-613EAB7ACA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ISTEMA HIDROLÓGICO</a:t>
            </a:r>
            <a:endParaRPr b="0" lang="en-US" sz="3600" spc="-1" strike="noStrike">
              <a:solidFill>
                <a:srgbClr val="000000"/>
              </a:solidFill>
              <a:latin typeface="Times New Roman"/>
            </a:endParaRPr>
          </a:p>
        </p:txBody>
      </p:sp>
      <p:sp>
        <p:nvSpPr>
          <p:cNvPr id="99" name="PlaceHolder 2"/>
          <p:cNvSpPr>
            <a:spLocks noGrp="1"/>
          </p:cNvSpPr>
          <p:nvPr>
            <p:ph/>
          </p:nvPr>
        </p:nvSpPr>
        <p:spPr>
          <a:xfrm>
            <a:off x="228600" y="1295280"/>
            <a:ext cx="8610480" cy="5105520"/>
          </a:xfrm>
          <a:prstGeom prst="rect">
            <a:avLst/>
          </a:prstGeom>
          <a:noFill/>
          <a:ln w="0">
            <a:noFill/>
          </a:ln>
        </p:spPr>
        <p:txBody>
          <a:bodyPr lIns="90000" rIns="90000" tIns="46800" bIns="46800"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ICLO COMPLEJO Y CONTINUO  POR MEDIO DEL CUAL EL AGUA SE DESPLAZA  DEL  OCÉANO A  LA  ATMOSFERA (por evaporación); COMO  VAPOR DE AGUA ES TRASLADA POR  LA CIRCULACIÓN ATMÓSFÉRICA SOBRE LOS CONTINENTES; EVENTUALMENTE (por condensación) CAE A LA SUPERFICIE TERRESTRE (por precipitación);  POR LA GRAVEDAD FLUYE DE  REGRESO A LOS OCÉANOS (por escurrimiento superficial y subterráne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COMPRENDE EL MOVIMIENTO DEL AGUA EN LOS OCÉANOS (corrientes oceánicas, oleaje, mareas);  EN  LA ATMOSFERA  (nubes, lluvia y nieve);  EN LOS CONTINENTES  (</a:t>
            </a:r>
            <a:r>
              <a:rPr b="1" lang="es-ES" sz="1800" spc="-1" strike="noStrike" u="sng">
                <a:solidFill>
                  <a:srgbClr val="ffffff"/>
                </a:solidFill>
                <a:uFillTx/>
                <a:latin typeface="Times New Roman"/>
              </a:rPr>
              <a:t>sobre la superficie</a:t>
            </a:r>
            <a:r>
              <a:rPr b="1" lang="es-ES" sz="1800" spc="-1" strike="noStrike">
                <a:solidFill>
                  <a:srgbClr val="ffffff"/>
                </a:solidFill>
                <a:latin typeface="Times New Roman"/>
              </a:rPr>
              <a:t>: ríos, lagos y glaciares;   </a:t>
            </a:r>
            <a:r>
              <a:rPr b="1" lang="es-ES" sz="1800" spc="-1" strike="noStrike" u="sng">
                <a:solidFill>
                  <a:srgbClr val="ffffff"/>
                </a:solidFill>
                <a:uFillTx/>
                <a:latin typeface="Times New Roman"/>
              </a:rPr>
              <a:t>bajo la superficie</a:t>
            </a:r>
            <a:r>
              <a:rPr b="1" lang="es-ES" sz="1800" spc="-1" strike="noStrike">
                <a:solidFill>
                  <a:srgbClr val="ffffff"/>
                </a:solidFill>
                <a:latin typeface="Times New Roman"/>
              </a:rPr>
              <a:t>: agua subterránea a través de  los espacios y poros de las rocas cercanas a la superfici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LA FUENTE DE LA ENERGÍA NECESARIA PARA EL MOVIMIENTO DEL AGUA PROVIENE DEL CALOR DEL SOL Y DE LA GRAVEDA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7BF4325-5B53-41DB-A6B8-0EA71103FD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28600" y="1523520"/>
            <a:ext cx="8610480" cy="4038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l volumen del agua en movimiento es casi incomprensiblemente grande: 4.000.000 km</a:t>
            </a:r>
            <a:r>
              <a:rPr b="0" lang="es-ES" sz="3200" spc="-1" strike="noStrike" baseline="30000">
                <a:solidFill>
                  <a:srgbClr val="ffffff"/>
                </a:solidFill>
                <a:latin typeface="Times New Roman"/>
              </a:rPr>
              <a:t>3</a:t>
            </a:r>
            <a:r>
              <a:rPr b="0" lang="es-ES" sz="3200" spc="-1" strike="noStrike">
                <a:solidFill>
                  <a:srgbClr val="ffffff"/>
                </a:solidFill>
                <a:latin typeface="Times New Roman"/>
              </a:rPr>
              <a:t> de agua se evaporan por año. Significa que si el agua evaporada de los océanos no regresara a éstos, los océanos se secarían en 4.000 años. En las épocas glaciares la cota de la superficie del mar baja en unos 100m su nivel actual</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3383732-EB0C-4A3A-913B-9A8C09A85E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609120"/>
            <a:ext cx="7772400" cy="58676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a Tierra es uno de los nueve planetas que, junto con aproximadamente una docena de lunas y numerosos cuerpos mas pequeños, gira alrededor del Sol. La naturaleza ordenada de nuestro sistema solar lleva a la mayoría de los astrónomos a deducir que todos sus componentes se formaron, esencialmente, al mismo tiempo  y de la misma materia primordial que el Sol. Este material es, al inicio del Sistema Solar, una gran nube de polvo y gases denominada </a:t>
            </a:r>
            <a:r>
              <a:rPr b="0" i="1" lang="en-US" sz="3200" spc="-1" strike="noStrike">
                <a:solidFill>
                  <a:srgbClr val="ffffff"/>
                </a:solidFill>
                <a:latin typeface="Arial"/>
                <a:ea typeface="Arial"/>
              </a:rPr>
              <a:t>nebulosa primordi</a:t>
            </a:r>
            <a:r>
              <a:rPr b="0" lang="en-US" sz="3200" spc="-1" strike="noStrike">
                <a:solidFill>
                  <a:srgbClr val="ffffff"/>
                </a:solidFill>
                <a:latin typeface="Arial"/>
                <a:ea typeface="Arial"/>
              </a:rPr>
              <a:t>al.</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A4B8F54-9924-4723-AB72-A72A877A21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57200"/>
            <a:ext cx="8305920" cy="5867280"/>
          </a:xfrm>
          <a:prstGeom prst="rect">
            <a:avLst/>
          </a:prstGeom>
          <a:noFill/>
          <a:ln w="0">
            <a:noFill/>
          </a:ln>
        </p:spPr>
        <p:txBody>
          <a:bodyPr lIns="90000" rIns="90000" tIns="46800" bIns="4680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AGUA EN MOVIMIENTO EN LOS CONTINENTES Y OCÉANOS DESGASTA LA CORTEZA (erosión);  TRANSPORTA LAS PARTÍCULAS  (sedimentos)  DISGREGADAS  POR LA ACCIÓN ANTERIOR A LUGARES TOPOGRÁFICAMENTE MAS BAJOS (transportación);  DEPOSITA  EL  MATERIAL TRANSPORTADO (sedimentación)  EN DIFERENTES AMBIENTES (depósitos sedimentarios de ambientes continentales y subacuáticos,  lacustres y marinos,  profundos o someros);  GENERA O ESCULPE LAS DISTINTAS FORMAS DE PAISAJE QUE CARACTERIZAN A  LA SUPERFICIE TERRESTRE  (montañas, colinas, cuencas y valles).</a:t>
            </a:r>
            <a:endParaRPr b="0" lang="en-US" sz="2800" spc="-1" strike="noStrike">
              <a:solidFill>
                <a:srgbClr val="000000"/>
              </a:solidFill>
              <a:latin typeface="Times New Roman"/>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A8AB0C6-F170-4DAE-8340-6D90FA6955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914400"/>
            <a:ext cx="7772400" cy="54864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OS PROCESOS ASOCIADOS AL SISTEMA DINÁMICO EXTERNO SE DENOMINAN PROCESOS EXÓGENO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Los Subsistemas son:</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FLUVIAL</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GLACIAR</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DE LAS AGUAS  SUBTERRÁNEAS</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COSTERO O LITORAL</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EL EÓLICO.</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43CD441-B6E8-4416-9188-AFC71ADBD8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SISTEMA TECTÓNICO</a:t>
            </a:r>
            <a:endParaRPr b="0" lang="en-US" sz="4000" spc="-1" strike="noStrike">
              <a:solidFill>
                <a:srgbClr val="000000"/>
              </a:solidFill>
              <a:latin typeface="Times New Roman"/>
            </a:endParaRPr>
          </a:p>
        </p:txBody>
      </p:sp>
      <p:sp>
        <p:nvSpPr>
          <p:cNvPr id="104"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SISTEMA DINÁMICO LIGADO ESTRECHAMENTE A  LA  ESTRUCTURA  INTERNA DE LA TIERRA Y  A  LAS  CARACTERÍSTICAS FISICAS DEL PLANETA. </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RESPONSABLE  DE  LOS  RASGOS MAYORES DE LA SUPERFICIE TERRESTRE, COMO  SON LOS CONTINENTES Y LAS CUENCAS OCEÁNICAS  </a:t>
            </a:r>
            <a:r>
              <a:rPr b="1" lang="es-ES" sz="2100" spc="-1" strike="noStrike" u="sng">
                <a:solidFill>
                  <a:srgbClr val="ffffff"/>
                </a:solidFill>
                <a:uFillTx/>
                <a:latin typeface="Times New Roman"/>
              </a:rPr>
              <a:t>(rasgos estructurales mayores de los continentes</a:t>
            </a:r>
            <a:r>
              <a:rPr b="1" lang="es-ES" sz="2100" spc="-1" strike="noStrike">
                <a:solidFill>
                  <a:srgbClr val="ffffff"/>
                </a:solidFill>
                <a:latin typeface="Times New Roman"/>
              </a:rPr>
              <a:t>:  escudos, plataformas y montañas o cordilleras plegadas; </a:t>
            </a:r>
            <a:r>
              <a:rPr b="1" lang="es-ES" sz="2100" spc="-1" strike="noStrike" u="sng">
                <a:solidFill>
                  <a:srgbClr val="ffffff"/>
                </a:solidFill>
                <a:uFillTx/>
                <a:latin typeface="Times New Roman"/>
              </a:rPr>
              <a:t>rasgos estructurales mayores  de los fondos oceánicos</a:t>
            </a:r>
            <a:r>
              <a:rPr b="1" lang="es-ES" sz="2100" spc="-1" strike="noStrike">
                <a:solidFill>
                  <a:srgbClr val="ffffff"/>
                </a:solidFill>
                <a:latin typeface="Times New Roman"/>
              </a:rPr>
              <a:t>:  dorsales oceánicas, planicies abisales, montes submarinos, fosas y márgenes continentales)</a:t>
            </a:r>
            <a:endParaRPr b="0" lang="en-US" sz="2100" spc="-1" strike="noStrike">
              <a:solidFill>
                <a:srgbClr val="000000"/>
              </a:solidFill>
              <a:latin typeface="Times New Roman"/>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Times New Roman"/>
              </a:rPr>
              <a:t>CONTROLA LOS DESPLAZAMIENTOS HORIZONTALES DE LA CORTEZA (deriva continental y expansión de los fondos oceánicos)  Y  LOS CICLOS DE VIDA DE LOS OCÉANOS  (“nacimiento”,  su evolución  y “muerte”)</a:t>
            </a: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2831E8A0-AAAC-47AF-847D-DAB5B672CF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4920" y="457200"/>
            <a:ext cx="8610480" cy="5867280"/>
          </a:xfrm>
          <a:prstGeom prst="rect">
            <a:avLst/>
          </a:prstGeom>
          <a:noFill/>
          <a:ln w="0">
            <a:noFill/>
          </a:ln>
        </p:spPr>
        <p:txBody>
          <a:bodyPr lIns="90000" rIns="90000" tIns="46800" bIns="46800" anchor="t">
            <a:normAutofit fontScale="99000"/>
          </a:bodyPr>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TEORÍA DE  PLACAS TECTÓNICAS: TEORÍA UNIFICADORA QUE EXPLICA LOS RASGOS ESTRUCTURALES MAYORES DE LA TIERRA COMO RESULTADO DEL MOVIMIENTO DE UN SERIE DE PLACAS LITOSFÉRICAS  (evolución de los continentes y cuencas oceánicas;   génesis   de las cordilleras plegadas;   génesis y distribución de los yacimientos de minerales,  etc.)</a:t>
            </a:r>
            <a:endParaRPr b="0" lang="en-US" sz="20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LA CORTEZA Y LA PARTE MAS SUPERIOR DEL MANTO FORMAN LA LITÓSFERA,  DE APROXIMADAMENTE  100  Km  DE ESPESOR,  LA  QUE SE QUIEBRA EN VARIAS PLACAS QUE SE  DESLIZAN COMO SOBRECARGA ENCIMA DEL MANTO MAS CALIENTE Y PLÁSTICO </a:t>
            </a:r>
            <a:endParaRPr b="0" lang="en-US" sz="20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33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ONDE LAS PLACAS DE LITÓSFERA  SE MUEVEN  APARTÁNDOSE UNA DE OTRA, EL ESPACIO LIBRE QUE QUEDA ES OCUPADO POR  MATERIAL CALIENTE QUE SURGE DEL MANTO,  CREÁNDOSE A PARTIR DE ESTE    NUEVA LITÓSFERA  (los rasgos mayores que atestiguan la ocurrencia de este proceso son: los </a:t>
            </a:r>
            <a:r>
              <a:rPr b="1" i="1" lang="es-ES" sz="2000" spc="-1" strike="noStrike">
                <a:solidFill>
                  <a:srgbClr val="ffffff"/>
                </a:solidFill>
                <a:latin typeface="Times New Roman"/>
              </a:rPr>
              <a:t>rift</a:t>
            </a:r>
            <a:r>
              <a:rPr b="1" lang="es-ES" sz="2000" spc="-1" strike="noStrike">
                <a:solidFill>
                  <a:srgbClr val="ffffff"/>
                </a:solidFill>
                <a:latin typeface="Times New Roman"/>
              </a:rPr>
              <a:t>  continentales,  los </a:t>
            </a:r>
            <a:r>
              <a:rPr b="1" i="1" lang="es-ES" sz="2000" spc="-1" strike="noStrike">
                <a:solidFill>
                  <a:srgbClr val="ffffff"/>
                </a:solidFill>
                <a:latin typeface="Times New Roman"/>
              </a:rPr>
              <a:t>ridge </a:t>
            </a:r>
            <a:r>
              <a:rPr b="1" lang="es-ES" sz="2000" spc="-1" strike="noStrike">
                <a:solidFill>
                  <a:srgbClr val="ffffff"/>
                </a:solidFill>
                <a:latin typeface="Times New Roman"/>
              </a:rPr>
              <a:t>o dorsales  oceánicas, y las nuevas cuencas oceánica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1482646-718D-40C0-A92C-420AD240F7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304920"/>
            <a:ext cx="8686800" cy="632448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ONDE EL MOVIMIENTO DE LAS PLACAS LITOSFÉRICAS ES CONVERGENTE (una chocando contra  otra), UNA DE ELLAS SE DESLIZA BAJO LA OTRA Y SE SUMERGE EN EL MANTO (los mayores rasgos que atestiguan la ocurrencia de este proceso son: las cadenas de montañas plegadas, con engrosamiento de la corteza, los arcos volcánicos y las fosas oceánicas profundas)</a:t>
            </a:r>
            <a:endParaRPr b="0" lang="en-US" sz="2400" spc="-1" strike="noStrike">
              <a:solidFill>
                <a:srgbClr val="000000"/>
              </a:solidFill>
              <a:latin typeface="Times New Roman"/>
            </a:endParaRPr>
          </a:p>
          <a:p>
            <a:pPr marL="335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ENERGÍA NECESARIA PARA LA OCURRENCIA DE TODOS  LOS PROCESOS GEOLÓGICOS ASOCIADOS AL SISTEMA TECTONICO  PROVIENE DEL INTERIOR DE LA TIERRA  (del calor relicto, mecánico y radioactivo, que se transfiere por conducción y convección) </a:t>
            </a:r>
            <a:endParaRPr b="0" lang="en-US" sz="2400" spc="-1" strike="noStrike">
              <a:solidFill>
                <a:srgbClr val="000000"/>
              </a:solidFill>
              <a:latin typeface="Times New Roman"/>
            </a:endParaRPr>
          </a:p>
          <a:p>
            <a:pPr marL="335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35880" indent="-3358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PROCESOS GEOLÓGICOS DEL SISTEMA TECTÓNICO SE DENOMINAN ENDÓGENOS (a escala de tiempo humana:  la sismicidad y el volcanism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316B775-0C86-4969-B8E0-5A4356F5E1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GRAVEDAD  E  ISOSTACIA</a:t>
            </a:r>
            <a:endParaRPr b="0" lang="en-US" sz="3600" spc="-1" strike="noStrike">
              <a:solidFill>
                <a:srgbClr val="000000"/>
              </a:solidFill>
              <a:latin typeface="Times New Roman"/>
            </a:endParaRPr>
          </a:p>
        </p:txBody>
      </p:sp>
      <p:sp>
        <p:nvSpPr>
          <p:cNvPr id="108"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 GRAVEDAD JUEGA UN ROL FUNDAMENTAL EN LA DINÁMICA DE LA TIERRA.   En el Sistema Hidrológico,  el flujo o desplazamiento del hielo (glaciares),  agua  corriente superficial (ríos)  y subterránea  (napas y nivel freático) está regulado    por la fuerza gravitatoria. En el Sistema Tectónico,  los alzamientos y hundimientos corticales (ascensos y descensos de la superficie  terrestre)  también son controlados  por la gravedad</a:t>
            </a:r>
            <a:endParaRPr b="0" lang="en-US" sz="2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 GRAVEDAD ESTÁ ÍNTIMAMENTE LIGADA A LA DIFERENCIACIÓN  EN EL INTERIOR DE LA TIERRA  (estructura interna  del planeta)</a:t>
            </a:r>
            <a:endParaRPr b="0" lang="en-US" sz="22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LAGRAVEDAD ES LA FUERZA QUE CONTROLA EL LÍMITE  REOLÓGICO  O CONTACTO ENTRE LA  LITOSFERA Y LA ASTENOSFERA  (la litosfera,  mas fría,  rígida y liviana,   flota  sobre  la  astenósfera ,  mas caliente, blanda - plástica (?) y densa).</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9C69B52-D816-4AD3-98C6-87138F0B48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4920" y="457200"/>
            <a:ext cx="8610480" cy="6019920"/>
          </a:xfrm>
          <a:prstGeom prst="rect">
            <a:avLst/>
          </a:prstGeom>
          <a:noFill/>
          <a:ln w="0">
            <a:noFill/>
          </a:ln>
        </p:spPr>
        <p:txBody>
          <a:bodyPr lIns="90000" rIns="90000" tIns="46800" bIns="46800"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CORTEZA RESPONDE CONTINUAMENTE A LA FUERZA DE LA GRAVEDAD,  Y MANTIENE UN BALANCE GRAVITACIONAL O ISOSTACIA</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AJUSTE   ISOSTÁTICO,  ESTO ES  LA TENDENCIA  AL   PUNTO DE  EQUILIBRIO  GRAVITACIONAL ENTRE CORTEZA Y MANTO,  HACE QUE LA PRIMERA DESPLACE EL MANTO DE ACUERDO CON SU VOLUMEN Y DENSIDAD</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GRAVEDAD ES LA FUERZA QUE CONTROLA TODOS LOS AJUSTES ISOSTÁTICOS </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UALQUIER CAMBIO POR ADICIÓN O REMOSIÓN DE MATERIAL EN  LA SUPERFICIE CAUSA UN AJUSTE ISOSTÁTICO  (los relieves montañosos altos tiene raíces profundas en el manto)</a:t>
            </a:r>
            <a:endParaRPr b="0" lang="en-US" sz="20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TIPO DE CARGA O DESCARGA EN  SUPERFICIE  PRODUCE MOVIMIENTOS VERTICALES DE LA LITÓSFER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B8BB1BE-8C57-4958-83DF-EDC0046B0D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228600" y="533520"/>
            <a:ext cx="8610480" cy="5867280"/>
          </a:xfrm>
          <a:prstGeom prst="rect">
            <a:avLst/>
          </a:prstGeom>
          <a:noFill/>
          <a:ln w="0">
            <a:noFill/>
          </a:ln>
        </p:spPr>
        <p:txBody>
          <a:bodyPr lIns="90000" rIns="90000" tIns="46800" bIns="46800" anchor="t">
            <a:normAutofit/>
          </a:bodyPr>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LA ISOSTACIA ESTÁ LIGADA A TODOS LOS PROCESOS QUE MODIFICAN LA DISTRIBUCIÓN DE LOS MATERIALES SOBRE LA SUPERFICIE TERRESTRE</a:t>
            </a:r>
            <a:endParaRPr b="0" lang="en-US" sz="2500" spc="-1" strike="noStrike">
              <a:solidFill>
                <a:srgbClr val="000000"/>
              </a:solidFill>
              <a:latin typeface="Times New Roman"/>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EL CONCEPTO DE  ISOSTACIA ES FUNDAMENTAL PARA ESTUDIAR LOS RASGOS MAYORES DE LA CORTEZA, COMO SON LOS CONTINENTES, LAS CUENCAS OCEÁNICAS  Y LAS CADENAS DE MONTAÑAS.... Y, POR CONSIGUIENTE,  PARA COMPRENDER  LA RESPUESTA DE LA CORTEZA A LA EROSIÓN,  SEDIMENTACIÓN  Y GLACIACIÓN.</a:t>
            </a:r>
            <a:endParaRPr b="0" lang="en-US" sz="2500" spc="-1" strike="noStrike">
              <a:solidFill>
                <a:srgbClr val="000000"/>
              </a:solidFill>
              <a:latin typeface="Times New Roman"/>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Times New Roman"/>
              </a:rPr>
              <a:t>SIGNIFICA QUE EL AJUSTE ISOSTÁTICO ESTÁ ENVUELTO EN CASI TODOS LOS PROCESOS EXÓGENOS</a:t>
            </a:r>
            <a:endParaRPr b="0" lang="en-US" sz="2500" spc="-1" strike="noStrike">
              <a:solidFill>
                <a:srgbClr val="000000"/>
              </a:solidFill>
              <a:latin typeface="Times New Roman"/>
            </a:endParaRPr>
          </a:p>
        </p:txBody>
      </p:sp>
      <p:sp>
        <p:nvSpPr>
          <p:cNvPr id="3" name="PlaceHolder 2"/>
          <p:cNvSpPr>
            <a:spLocks noGrp="1"/>
          </p:cNvSpPr>
          <p:nvPr>
            <p:ph type="sldNum" idx="3"/>
          </p:nvPr>
        </p:nvSpPr>
        <p:spPr/>
        <p:txBody>
          <a:bodyPr/>
          <a:p>
            <a:fld id="{9A3DE3AA-D535-4174-8501-651FE941AD1E}"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7" name=""/>
          <p:cNvSpPr/>
          <p:nvPr/>
        </p:nvSpPr>
        <p:spPr>
          <a:xfrm>
            <a:off x="380880" y="1066680"/>
            <a:ext cx="8458200" cy="5152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La Tierra comparada con los demás planetas terrest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El agua mas que ninguna otra cosa hace que el planeta tierra sea único. Debido a su tamaño y distancia al sol ha podido desarrollar y retener una atmósfera y una hidrosfera,  y  los rangos de su temperatura son tales que el agua puede existir en su superficie como liquido, sólido y gas. Esta condición de planeta único hizo posible la aparición y evolución de la vida como la conocemos en la Tierra</a:t>
            </a:r>
            <a:r>
              <a:rPr b="0" lang="es-ES_tradnl"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460A98A-484E-41D3-BCE2-8715F64C8A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            </a:t>
            </a:r>
            <a:r>
              <a:rPr b="1" lang="es-ES" sz="4400" spc="-1" strike="noStrike">
                <a:solidFill>
                  <a:srgbClr val="ffffff"/>
                </a:solidFill>
                <a:latin typeface="Times New Roman"/>
              </a:rPr>
              <a:t>El método científico</a:t>
            </a:r>
            <a:endParaRPr b="0" lang="en-US" sz="4400" spc="-1" strike="noStrike">
              <a:solidFill>
                <a:srgbClr val="000000"/>
              </a:solidFill>
              <a:latin typeface="Times New Roman"/>
            </a:endParaRPr>
          </a:p>
        </p:txBody>
      </p:sp>
      <p:sp>
        <p:nvSpPr>
          <p:cNvPr id="49" name="PlaceHolder 2"/>
          <p:cNvSpPr>
            <a:spLocks noGrp="1"/>
          </p:cNvSpPr>
          <p:nvPr>
            <p:ph/>
          </p:nvPr>
        </p:nvSpPr>
        <p:spPr>
          <a:xfrm>
            <a:off x="380880" y="990360"/>
            <a:ext cx="8382240" cy="4800600"/>
          </a:xfrm>
          <a:prstGeom prst="rect">
            <a:avLst/>
          </a:prstGeom>
          <a:noFill/>
          <a:ln w="0">
            <a:noFill/>
          </a:ln>
        </p:spPr>
        <p:txBody>
          <a:bodyPr lIns="90000" rIns="90000" tIns="46800" bIns="46800" anchor="t">
            <a:normAutofit/>
          </a:bodyPr>
          <a:p>
            <a:pPr marL="343080" indent="-343080">
              <a:spcBef>
                <a:spcPts val="72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ffffff"/>
                </a:solidFill>
                <a:latin typeface="Times New Roman"/>
              </a:rPr>
              <a:t>Es importante saber que:</a:t>
            </a:r>
            <a:endParaRPr b="0" lang="en-US" sz="29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EL OBJETO DE  TODA  CIENCIA  ES  EXPLICAR  CON  CRECIENTE  PRECISIÓN COMO TRABAJA EL UNIVERSO</a:t>
            </a:r>
            <a:endParaRPr b="0" lang="en-US" sz="25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Times New Roman"/>
              </a:rPr>
              <a:t>EL METODO CIENTÍFICO EN QUE SE BASAN TODAS LOS CIENTISTAS  ES UNA ESTRATEGIA DE BÚSQUEDA GENERAL, BASADA  EN EL PRINCIPIO DE QUE TODO EVENTO FÍSICO TIENE UNA EXPLICACIÓN FÍSICA, INCLUSO SI ÉSTA ESTÁ MAS ALLÁ  DE NUESTRA CAPACIDAD DE ENTENDIMIENTO.</a:t>
            </a:r>
            <a:endParaRPr b="0" lang="en-US" sz="2500" spc="-1" strike="noStrike">
              <a:solidFill>
                <a:srgbClr val="000000"/>
              </a:solidFill>
              <a:latin typeface="Times New Roman"/>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4" name="PlaceHolder 3"/>
          <p:cNvSpPr>
            <a:spLocks noGrp="1"/>
          </p:cNvSpPr>
          <p:nvPr>
            <p:ph type="sldNum" idx="3"/>
          </p:nvPr>
        </p:nvSpPr>
        <p:spPr/>
        <p:txBody>
          <a:bodyPr/>
          <a:p>
            <a:fld id="{FCDF5C5D-32A6-46B2-BDC5-F5D0448556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761760"/>
            <a:ext cx="7772400" cy="518148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CEPTOS MAYORES:</a:t>
            </a:r>
            <a:endParaRPr b="0" lang="en-US" sz="2400" spc="-1" strike="noStrike">
              <a:solidFill>
                <a:srgbClr val="000000"/>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interpretación de los eventos de la historia de la Tierra se basa en el principio que las leyes de la naturaleza no cambian con el tiempo</a:t>
            </a:r>
            <a:r>
              <a:rPr b="1" lang="es-ES" sz="2400" spc="-1" strike="noStrike">
                <a:solidFill>
                  <a:srgbClr val="ffffff"/>
                </a:solidFill>
                <a:latin typeface="Times New Roman"/>
              </a:rPr>
              <a:t>.</a:t>
            </a:r>
            <a:r>
              <a:rPr b="0" lang="es-ES" sz="2400" spc="-1" strike="noStrike">
                <a:solidFill>
                  <a:srgbClr val="ffffff"/>
                </a:solidFill>
                <a:latin typeface="Times New Roman"/>
              </a:rPr>
              <a:t>  Se asume que las leyes de la química y física que operan hoy día han operado a través de todos los tiempos  (la atracción entre dos cuerpos (</a:t>
            </a:r>
            <a:r>
              <a:rPr b="1" i="1" lang="es-ES" sz="2400" spc="-1" strike="noStrike" u="sng">
                <a:solidFill>
                  <a:srgbClr val="ffffff"/>
                </a:solidFill>
                <a:uFillTx/>
                <a:latin typeface="Times New Roman"/>
              </a:rPr>
              <a:t>gravedad</a:t>
            </a:r>
            <a:r>
              <a:rPr b="0" lang="es-ES" sz="2400" spc="-1" strike="noStrike">
                <a:solidFill>
                  <a:srgbClr val="ffffff"/>
                </a:solidFill>
                <a:latin typeface="Times New Roman"/>
              </a:rPr>
              <a:t>) ha actuado en el pasado como lo hace hoy día; </a:t>
            </a:r>
            <a:r>
              <a:rPr b="1" i="1" lang="es-ES" sz="2400" spc="-1" strike="noStrike">
                <a:solidFill>
                  <a:srgbClr val="ffffff"/>
                </a:solidFill>
                <a:latin typeface="Times New Roman"/>
              </a:rPr>
              <a:t>Oxígeno e Hidrógeno</a:t>
            </a:r>
            <a:r>
              <a:rPr b="0" lang="es-ES" sz="2400" spc="-1" strike="noStrike">
                <a:solidFill>
                  <a:srgbClr val="ffffff"/>
                </a:solidFill>
                <a:latin typeface="Times New Roman"/>
              </a:rPr>
              <a:t> se han combinado en el pasado para formar agua bajo las mismas condiciones que lo hacen hoy día;  todas las acciones químicas y físicas y reacciones que ocurren hoy, se han producido en el pasado por las mismas causas en el pasado,  produciendo eventos similares  100 o 150 millones de años atrás; este es el principio del </a:t>
            </a:r>
            <a:r>
              <a:rPr b="1" lang="es-ES" sz="2400" spc="-1" strike="noStrike">
                <a:solidFill>
                  <a:srgbClr val="ffffff"/>
                </a:solidFill>
                <a:latin typeface="Times New Roman"/>
              </a:rPr>
              <a:t>UNIFORMITARIANISMO.</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B3CA888-95B2-4FB2-A6E6-E39B656898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1" name=""/>
          <p:cNvSpPr/>
          <p:nvPr/>
        </p:nvSpPr>
        <p:spPr>
          <a:xfrm>
            <a:off x="304920" y="533520"/>
            <a:ext cx="853416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SIN EMBARGO,   A DIFERENCIA DE OTRAS DISCIPLINAS CIENTÍFICAS,  LA </a:t>
            </a:r>
            <a:r>
              <a:rPr b="1" i="1" lang="es-ES_tradnl" sz="2000" spc="-1" strike="noStrike">
                <a:solidFill>
                  <a:srgbClr val="ffffff"/>
                </a:solidFill>
                <a:latin typeface="Times New Roman"/>
              </a:rPr>
              <a:t>   </a:t>
            </a:r>
            <a:r>
              <a:rPr b="0" i="1" lang="es-ES_tradnl" sz="2000" spc="-1" strike="noStrike">
                <a:solidFill>
                  <a:srgbClr val="ffffff"/>
                </a:solidFill>
                <a:latin typeface="Times New Roman"/>
              </a:rPr>
              <a:t>GEOLOGÍA</a:t>
            </a:r>
            <a:r>
              <a:rPr b="1" i="1" lang="es-ES_tradnl" sz="2000" spc="-1" strike="noStrike">
                <a:solidFill>
                  <a:srgbClr val="ffffff"/>
                </a:solidFill>
                <a:latin typeface="Times New Roman"/>
              </a:rPr>
              <a:t>  </a:t>
            </a:r>
            <a:r>
              <a:rPr b="0" lang="es-ES_tradnl" sz="2000" spc="-1" strike="noStrike">
                <a:solidFill>
                  <a:srgbClr val="ffffff"/>
                </a:solidFill>
                <a:latin typeface="Times New Roman"/>
              </a:rPr>
              <a:t>ES UN  CIENCIA  </a:t>
            </a:r>
            <a:r>
              <a:rPr b="0" i="1" lang="es-ES_tradnl" sz="2000" spc="-1" strike="noStrike">
                <a:solidFill>
                  <a:srgbClr val="ffffff"/>
                </a:solidFill>
                <a:latin typeface="Times New Roman"/>
              </a:rPr>
              <a:t>MAS  ORIENTADA   EL   TRABAJO DE  CAMPO  QUE   DE   LABORATORIO</a:t>
            </a:r>
            <a:r>
              <a:rPr b="0" lang="es-ES_tradnl" sz="2000" spc="-1" strike="noStrike">
                <a:solidFill>
                  <a:srgbClr val="ffffff"/>
                </a:solidFill>
                <a:latin typeface="Times New Roman"/>
              </a:rPr>
              <a:t>,  Y   LAS  OBSERVACIONES  LAS  RECOGE  DE  LAS  ROCAS,   QUE  SON  LOS  DOCUMENTOS  NATURALES   DÓNDE  QUEDAN   REGISTRADOS   LOS  PRINCIPALES   SUCESOS   OCURRIDOS  EN  EL  PASA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A  LA  GEOLOGÍA,   EL   </a:t>
            </a:r>
            <a:r>
              <a:rPr b="0" i="1" lang="es-ES_tradnl" sz="2000" spc="-1" strike="noStrike">
                <a:solidFill>
                  <a:srgbClr val="ffffff"/>
                </a:solidFill>
                <a:latin typeface="Times New Roman"/>
              </a:rPr>
              <a:t>EXPERIMENTO   YA  HA  SIDO REALIZADO  EN   LA   NATURALEZA</a:t>
            </a:r>
            <a:r>
              <a:rPr b="0" lang="es-ES_tradnl" sz="2000" spc="-1" strike="noStrike">
                <a:solidFill>
                  <a:srgbClr val="ffffff"/>
                </a:solidFill>
                <a:latin typeface="Times New Roman"/>
              </a:rPr>
              <a:t>,  Y  POR  CONSIGUIENTE,   SÓLO  SE  OBSERVA  SU  RESULTADO,   y  no  todo,  pues  parte del  mismo  se  pierde  o  no se puede  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ENTOS  DE  DUPLICAR  PROCESOS   NATURALES  EN     LABORATORIOS  NO  SIEMPRE  SON  EXITOSOS.  EL MAYOR  PROBLEMA   ES  EL  </a:t>
            </a:r>
            <a:r>
              <a:rPr b="1" i="1" lang="es-ES_tradnl" sz="2000" spc="-1" strike="noStrike" u="sng">
                <a:solidFill>
                  <a:srgbClr val="ffffff"/>
                </a:solidFill>
                <a:uFillTx/>
                <a:latin typeface="Times New Roman"/>
              </a:rPr>
              <a:t>FACTOR  TIEMPO</a:t>
            </a:r>
            <a:r>
              <a:rPr b="0" lang="es-ES_tradnl" sz="2000" spc="-1" strike="noStrike">
                <a:solidFill>
                  <a:srgbClr val="ffffff"/>
                </a:solidFill>
                <a:latin typeface="Times New Roman"/>
              </a:rPr>
              <a:t>   (la  gran  incógnita  es  la  velocidad  a  la que ocurren  los  cambios  físicos  y químicos en  la naturaleza ).   LA  </a:t>
            </a:r>
            <a:r>
              <a:rPr b="0" i="1" lang="es-ES_tradnl" sz="2000" spc="-1" strike="noStrike">
                <a:solidFill>
                  <a:srgbClr val="ffffff"/>
                </a:solidFill>
                <a:latin typeface="Times New Roman"/>
              </a:rPr>
              <a:t>ESCALA</a:t>
            </a:r>
            <a:r>
              <a:rPr b="0" lang="es-ES_tradnl" sz="2000" spc="-1" strike="noStrike">
                <a:solidFill>
                  <a:srgbClr val="000000"/>
                </a:solidFill>
                <a:latin typeface="Times New Roman"/>
              </a:rPr>
              <a:t>  </a:t>
            </a:r>
            <a:r>
              <a:rPr b="0" i="1" lang="es-ES_tradnl" sz="2000" spc="-1" strike="noStrike">
                <a:solidFill>
                  <a:srgbClr val="ffffff"/>
                </a:solidFill>
                <a:latin typeface="Times New Roman"/>
              </a:rPr>
              <a:t>TIEMPO  GEOLÓGICO</a:t>
            </a:r>
            <a:r>
              <a:rPr b="0" i="1" lang="es-ES_tradnl" sz="2000" spc="-1" strike="noStrike">
                <a:solidFill>
                  <a:srgbClr val="ffffff"/>
                </a:solidFill>
                <a:latin typeface="Times New Roman"/>
              </a:rPr>
              <a:t>    </a:t>
            </a:r>
            <a:r>
              <a:rPr b="0" lang="es-ES_tradnl" sz="2000" spc="-1" strike="noStrike">
                <a:solidFill>
                  <a:srgbClr val="ffffff"/>
                </a:solidFill>
                <a:latin typeface="Times New Roman"/>
              </a:rPr>
              <a:t>ES  CASI  IRREPRODUCIBLE    EXPERIMENTALMENTE   Y  EL  MONITOREO  DE  LOS  PROCESOS  GEOLÓGICOS  NO  ES   SIMPL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70C7385-E126-4110-B44A-6B8B820080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600"/>
            <a:ext cx="84582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QUE  SABEMOS   HOY  ACERCA  DE  LA  TIERRA</a:t>
            </a:r>
            <a:r>
              <a:rPr b="1" lang="en-US" sz="4400" spc="-1" strike="noStrike">
                <a:solidFill>
                  <a:srgbClr val="000000"/>
                </a:solidFill>
                <a:latin typeface="Times New Roman"/>
              </a:rPr>
              <a:t> </a:t>
            </a:r>
            <a:r>
              <a:rPr b="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53" name="PlaceHolder 2"/>
          <p:cNvSpPr>
            <a:spLocks noGrp="1"/>
          </p:cNvSpPr>
          <p:nvPr>
            <p:ph/>
          </p:nvPr>
        </p:nvSpPr>
        <p:spPr>
          <a:xfrm>
            <a:off x="4648320" y="837720"/>
            <a:ext cx="3962160" cy="57150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reemos  conocer:</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origen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edad</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 configuración interna</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grandes cambios físicos y químicos que ha experimentado a través de su historia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sistemas dinámicos interno y externo que la afectan </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génesis de los minerales y  rocas</a:t>
            </a:r>
            <a:endParaRPr b="0" lang="en-US" sz="2400" spc="-1" strike="noStrike">
              <a:solidFill>
                <a:srgbClr val="000000"/>
              </a:solidFill>
              <a:latin typeface="Times New Roman"/>
            </a:endParaRPr>
          </a:p>
          <a:p>
            <a:pPr marL="339480" indent="-33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 mucho mas ......</a:t>
            </a:r>
            <a:endParaRPr b="0" lang="en-US" sz="2400" spc="-1" strike="noStrike">
              <a:solidFill>
                <a:srgbClr val="000000"/>
              </a:solidFill>
              <a:latin typeface="Times New Roman"/>
            </a:endParaRPr>
          </a:p>
        </p:txBody>
      </p:sp>
      <p:sp>
        <p:nvSpPr>
          <p:cNvPr id="54" name="PlaceHolder 3"/>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 descr=""/>
          <p:cNvPicPr/>
          <p:nvPr/>
        </p:nvPicPr>
        <p:blipFill>
          <a:blip r:embed="rId1"/>
          <a:stretch/>
        </p:blipFill>
        <p:spPr>
          <a:xfrm>
            <a:off x="609480" y="1371600"/>
            <a:ext cx="3048120" cy="4572000"/>
          </a:xfrm>
          <a:prstGeom prst="rect">
            <a:avLst/>
          </a:prstGeom>
          <a:ln w="0">
            <a:noFill/>
          </a:ln>
        </p:spPr>
      </p:pic>
      <p:sp>
        <p:nvSpPr>
          <p:cNvPr id="5" name="PlaceHolder 4"/>
          <p:cNvSpPr>
            <a:spLocks noGrp="1"/>
          </p:cNvSpPr>
          <p:nvPr>
            <p:ph type="sldNum" idx="3"/>
          </p:nvPr>
        </p:nvSpPr>
        <p:spPr/>
        <p:txBody>
          <a:bodyPr/>
          <a:p>
            <a:fld id="{80278406-C72B-4C54-8DBC-8ABC70982D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RAS   DISCIPLINAS   EN  EL  ÁREA   DE  LAS  CIENCIAS  DE  LA TIERRA SON:</a:t>
            </a:r>
            <a:endParaRPr b="0" lang="en-US" sz="2000" spc="-1" strike="noStrike">
              <a:solidFill>
                <a:srgbClr val="000000"/>
              </a:solidFill>
              <a:latin typeface="Times New Roman"/>
            </a:endParaRPr>
          </a:p>
        </p:txBody>
      </p:sp>
      <p:sp>
        <p:nvSpPr>
          <p:cNvPr id="57" name=""/>
          <p:cNvSpPr/>
          <p:nvPr/>
        </p:nvSpPr>
        <p:spPr>
          <a:xfrm>
            <a:off x="533520" y="2514600"/>
            <a:ext cx="77724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GEOFÍSICA:  dinámica del interior de la tierr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METEOROLOGÍA:  dinámica de la atmósfer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OCEANOGRAFÍA:   dinámica de los  océano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0F0E1EE-8BB0-4361-8E5F-D138FE0687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0T00:35:38Z</dcterms:created>
  <dc:creator>Universidad de Chile</dc:creator>
  <dc:description/>
  <dc:language>en-US</dc:language>
  <cp:lastModifiedBy>Ricardo Thiele</cp:lastModifiedBy>
  <cp:lastPrinted>2001-04-09T21:11:13Z</cp:lastPrinted>
  <dcterms:modified xsi:type="dcterms:W3CDTF">2004-07-27T17:19:17Z</dcterms:modified>
  <cp:revision>103</cp:revision>
  <dc:subject/>
  <dc:title>ESCUELA DE VERANO 2001</dc:title>
</cp:coreProperties>
</file>